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D0F8D-0BBF-41BF-A280-91269C27D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odule 1:  Not a Pretty Picture – The Importance of Children’s Ministry (Mark 10:14)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7F775-448A-44CA-9AF8-922606B88ABA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What’s Wrong with This Picture?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Outsid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setting has changed in Mark10:10 from a public one to a private home.  It took place inside a house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 is happy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Children are too old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-- 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Disciples are happy?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disciples rebuked the parents.  Why do you think the disciples rebuked the parents?  The disciples were busy learning from Jesus, and so they probably thought,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is just isn’t the time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didn’t appreciate the disrupt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185C5-2713-4D28-B125-ECA647B52B04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Contex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tried to trip him up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2C2DB-713B-446C-9F30-5BB0110037F5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Parents’ Inten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3.  “Then they brought little children to Him, that He might touch them; but the disciples rebuked those who brought them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“They” probably refers to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The children are likely toddlers and/or infa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For the purpose of getting Jesus’ bless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AD001-2E4D-4249-990E-B004B7B82CA3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Disciples’ Respon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rebuked the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This is not the time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We are doing something more important than blessing children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0250E-C0FC-48E7-895F-17AF9280C6DA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Emotio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4.  “But when Jesus saw it, He was greatly displeased and said to them, “Let the little children come to Me, and do not forbid them; for of such  is the kingdom of God.”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Jesus was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“angry”, “displeased”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ince Jesus’ emotional reaction is only recorded in Mark, it often gets overlooked.  An artist who paints this scene without studying the Mark account will portray a happy, peaceful occas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4F0BB-69B4-46D0-9324-2D9BED904A64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How We See Childre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1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wrong!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athy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toward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2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practic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prov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3:  Children are our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tru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ppreciation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of children’s ministry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Moses reminded the children of Israel of this view of children (Deut 4:40; 6:1-2).  If we don’t minister to children, Christianity will di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4:  Children are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’!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34CDB-989D-479C-BA73-9331F591616B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673EE-BEAC-43A9-A713-AD7DE02F0D6C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F65D3-BD6D-43B3-BA78-6AF1FF122351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B917E-45F3-4755-8372-7B3D206C3A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BFACD-0EDD-4B31-99C2-538FE3EFF9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619C9-F4F9-4820-8F74-A4148323BF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8C54A-4F8F-42DB-A1A7-7AD631DFBB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81B8F-8A3E-4127-81EC-5CC89E8D70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B14AF-DD4E-4201-AB1B-FC65DB78CD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DFB40-188A-4EA0-BB34-AE763DF88A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C5FDF-B33E-4831-A629-CE45C609A2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00B7B-895E-41A4-8C0F-5C79BE1709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6ECD0-6472-4734-A452-250BFDDFF4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D48F6-D302-4D0C-8D9B-3379FCF3D3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75175-13C1-4044-9CB6-DB523CE897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10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1-</a:t>
            </a:r>
            <a:fld id="{4705BDBF-60E2-4673-96D9-6704B511BB73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Arial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379320" y="4563720"/>
            <a:ext cx="5402520" cy="11890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Humanst521 BT"/>
              </a:rPr>
              <a:t>Module  4A:</a:t>
            </a:r>
            <a:br>
              <a:rPr sz="3800"/>
            </a:br>
            <a:r>
              <a:rPr b="1" lang="en-US" sz="4000" spc="-1" strike="noStrike">
                <a:solidFill>
                  <a:srgbClr val="434c8d"/>
                </a:solidFill>
                <a:latin typeface="Humanst521 BT"/>
              </a:rPr>
              <a:t>Not a Pretty Pictur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1544400" y="247680"/>
            <a:ext cx="660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eadership Certification, Level III, Course #4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32CA5478-7715-48AC-BD83-4C1F7717C24A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rcRect l="0" t="18286" r="0" b="19059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5617800"/>
            <a:ext cx="9144000" cy="9349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What’s </a:t>
            </a:r>
            <a:r>
              <a:rPr b="0" i="1" lang="en-US" sz="4000" spc="-1" strike="noStrike">
                <a:solidFill>
                  <a:srgbClr val="ffffff"/>
                </a:solidFill>
                <a:latin typeface="Humanst521 BT"/>
              </a:rPr>
              <a:t>Wrong</a:t>
            </a: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 with This Picture?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228600" y="228600"/>
            <a:ext cx="1871640" cy="5317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Outsi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914400" y="3200400"/>
            <a:ext cx="1871640" cy="12193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Children are too ol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6313320" y="3657600"/>
            <a:ext cx="2264040" cy="7621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Disciples(?) are 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5029200" y="304920"/>
            <a:ext cx="1871640" cy="83808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Jesus i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4F6D0DA9-DD9D-4DA7-B8CE-EBD29220EDDE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B73E11FB-45A8-49D5-B7C2-AC9C44562AA2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Contex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2476440"/>
            <a:ext cx="38098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tried to trip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m up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267080" y="2476440"/>
            <a:ext cx="3810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6F4CC5E3-EF76-4B74-8D82-F7A820A4A419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Parents’ Inten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9520" y="2476440"/>
            <a:ext cx="4953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” probably ref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o pare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children are likely toddlers and/or infa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For the purpose of getting Jesus’ blessing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5" name="Group 8"/>
          <p:cNvGrpSpPr/>
          <p:nvPr/>
        </p:nvGrpSpPr>
        <p:grpSpPr>
          <a:xfrm>
            <a:off x="-452520" y="830160"/>
            <a:ext cx="5019480" cy="6230880"/>
            <a:chOff x="-452520" y="830160"/>
            <a:chExt cx="5019480" cy="6230880"/>
          </a:xfrm>
        </p:grpSpPr>
        <p:sp>
          <p:nvSpPr>
            <p:cNvPr id="106" name="Freeform 5"/>
            <p:cNvSpPr/>
            <p:nvPr/>
          </p:nvSpPr>
          <p:spPr>
            <a:xfrm rot="595800">
              <a:off x="0" y="1142640"/>
              <a:ext cx="4114440" cy="5605200"/>
            </a:xfrm>
            <a:custGeom>
              <a:avLst/>
              <a:gdLst>
                <a:gd name="textAreaLeft" fmla="*/ 0 w 4114440"/>
                <a:gd name="textAreaRight" fmla="*/ 4114800 w 4114440"/>
                <a:gd name="textAreaTop" fmla="*/ 0 h 5605200"/>
                <a:gd name="textAreaBottom" fmla="*/ 5605560 h 56052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07" name="Freeform 6"/>
            <p:cNvSpPr/>
            <p:nvPr/>
          </p:nvSpPr>
          <p:spPr>
            <a:xfrm rot="595800">
              <a:off x="41760" y="1249200"/>
              <a:ext cx="3981960" cy="5402880"/>
            </a:xfrm>
            <a:custGeom>
              <a:avLst/>
              <a:gdLst>
                <a:gd name="textAreaLeft" fmla="*/ 0 w 3981960"/>
                <a:gd name="textAreaRight" fmla="*/ 3982320 w 3981960"/>
                <a:gd name="textAreaTop" fmla="*/ 0 h 5402880"/>
                <a:gd name="textAreaBottom" fmla="*/ 5403240 h 540288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08" name="Text Box 7"/>
          <p:cNvSpPr/>
          <p:nvPr/>
        </p:nvSpPr>
        <p:spPr>
          <a:xfrm>
            <a:off x="527040" y="1638360"/>
            <a:ext cx="303516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AF506622-CF6F-4B8F-B310-A9D13CDF74F3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0" name="Group 8"/>
          <p:cNvGrpSpPr/>
          <p:nvPr/>
        </p:nvGrpSpPr>
        <p:grpSpPr>
          <a:xfrm>
            <a:off x="-433440" y="935280"/>
            <a:ext cx="4867560" cy="5984640"/>
            <a:chOff x="-433440" y="935280"/>
            <a:chExt cx="4867560" cy="5984640"/>
          </a:xfrm>
        </p:grpSpPr>
        <p:sp>
          <p:nvSpPr>
            <p:cNvPr id="111" name="Freeform 9"/>
            <p:cNvSpPr/>
            <p:nvPr/>
          </p:nvSpPr>
          <p:spPr>
            <a:xfrm rot="595800">
              <a:off x="0" y="1239840"/>
              <a:ext cx="4000320" cy="5375160"/>
            </a:xfrm>
            <a:custGeom>
              <a:avLst/>
              <a:gdLst>
                <a:gd name="textAreaLeft" fmla="*/ 0 w 4000320"/>
                <a:gd name="textAreaRight" fmla="*/ 4000680 w 4000320"/>
                <a:gd name="textAreaTop" fmla="*/ 0 h 5375160"/>
                <a:gd name="textAreaBottom" fmla="*/ 5375520 h 537516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12" name="Freeform 10"/>
            <p:cNvSpPr/>
            <p:nvPr/>
          </p:nvSpPr>
          <p:spPr>
            <a:xfrm rot="595800">
              <a:off x="40320" y="1341360"/>
              <a:ext cx="3871440" cy="5181120"/>
            </a:xfrm>
            <a:custGeom>
              <a:avLst/>
              <a:gdLst>
                <a:gd name="textAreaLeft" fmla="*/ 0 w 3871440"/>
                <a:gd name="textAreaRight" fmla="*/ 3871800 w 3871440"/>
                <a:gd name="textAreaTop" fmla="*/ 0 h 5181120"/>
                <a:gd name="textAreaBottom" fmla="*/ 5181480 h 518112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Disciples’ Respons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9880" y="2411280"/>
            <a:ext cx="502920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disciples rebuk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parent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is is not the time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We are doing something more important than blessing children.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507960" y="1638360"/>
            <a:ext cx="307332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9AAF9A11-19D6-4432-AD5E-15E0E26F7515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Emotio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62160" y="2476440"/>
            <a:ext cx="47242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9" name="Group 12"/>
          <p:cNvGrpSpPr/>
          <p:nvPr/>
        </p:nvGrpSpPr>
        <p:grpSpPr>
          <a:xfrm>
            <a:off x="-464760" y="706320"/>
            <a:ext cx="4948560" cy="6345360"/>
            <a:chOff x="-464760" y="706320"/>
            <a:chExt cx="4948560" cy="6345360"/>
          </a:xfrm>
        </p:grpSpPr>
        <p:sp>
          <p:nvSpPr>
            <p:cNvPr id="120" name="Freeform 13"/>
            <p:cNvSpPr/>
            <p:nvPr/>
          </p:nvSpPr>
          <p:spPr>
            <a:xfrm rot="595800">
              <a:off x="0" y="1009800"/>
              <a:ext cx="4019040" cy="5738400"/>
            </a:xfrm>
            <a:custGeom>
              <a:avLst/>
              <a:gdLst>
                <a:gd name="textAreaLeft" fmla="*/ 0 w 4019040"/>
                <a:gd name="textAreaRight" fmla="*/ 4019400 w 4019040"/>
                <a:gd name="textAreaTop" fmla="*/ 0 h 5738400"/>
                <a:gd name="textAreaBottom" fmla="*/ 5738760 h 57384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21" name="Freeform 14"/>
            <p:cNvSpPr/>
            <p:nvPr/>
          </p:nvSpPr>
          <p:spPr>
            <a:xfrm rot="595800">
              <a:off x="40680" y="1118520"/>
              <a:ext cx="3889440" cy="5531400"/>
            </a:xfrm>
            <a:custGeom>
              <a:avLst/>
              <a:gdLst>
                <a:gd name="textAreaLeft" fmla="*/ 0 w 3889440"/>
                <a:gd name="textAreaRight" fmla="*/ 3889800 w 3889440"/>
                <a:gd name="textAreaTop" fmla="*/ 0 h 5531400"/>
                <a:gd name="textAreaBottom" fmla="*/ 5531400 h 553140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22" name="Text Box 7"/>
          <p:cNvSpPr/>
          <p:nvPr/>
        </p:nvSpPr>
        <p:spPr>
          <a:xfrm>
            <a:off x="533520" y="1447920"/>
            <a:ext cx="2990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14.  But when Jesus saw it,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He was greatly displeased and said to them, “Let the little children come to Me, and do not forbid them; for of such  is the kingdom of God.” 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0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5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0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5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549BEB56-DBC1-4745-88B1-A5C5DAFEE9F9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How We See Childre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380880" y="1523880"/>
            <a:ext cx="2895840" cy="1828800"/>
          </a:xfrm>
          <a:prstGeom prst="cloudCallout">
            <a:avLst>
              <a:gd name="adj1" fmla="val -58166"/>
              <a:gd name="adj2" fmla="val 62500"/>
            </a:avLst>
          </a:prstGeom>
          <a:gradFill rotWithShape="0">
            <a:gsLst>
              <a:gs pos="0">
                <a:srgbClr val="434c8d"/>
              </a:gs>
              <a:gs pos="100000">
                <a:srgbClr val="0000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1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6553080" y="2438280"/>
            <a:ext cx="243864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simply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wrong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ath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toward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AutoShape 13"/>
          <p:cNvSpPr/>
          <p:nvPr/>
        </p:nvSpPr>
        <p:spPr>
          <a:xfrm>
            <a:off x="380880" y="4038480"/>
            <a:ext cx="2895840" cy="1828800"/>
          </a:xfrm>
          <a:prstGeom prst="cloudCallout">
            <a:avLst>
              <a:gd name="adj1" fmla="val -56907"/>
              <a:gd name="adj2" fmla="val 64842"/>
            </a:avLst>
          </a:prstGeom>
          <a:gradFill rotWithShape="0">
            <a:gsLst>
              <a:gs pos="0">
                <a:srgbClr val="d1e8ff"/>
              </a:gs>
              <a:gs pos="100000">
                <a:srgbClr val="3399ff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3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ou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AutoShape 14"/>
          <p:cNvSpPr/>
          <p:nvPr/>
        </p:nvSpPr>
        <p:spPr>
          <a:xfrm>
            <a:off x="3467160" y="1523880"/>
            <a:ext cx="2895480" cy="1828800"/>
          </a:xfrm>
          <a:prstGeom prst="cloudCallout">
            <a:avLst>
              <a:gd name="adj1" fmla="val -61625"/>
              <a:gd name="adj2" fmla="val 60592"/>
            </a:avLst>
          </a:prstGeom>
          <a:gradFill rotWithShape="0">
            <a:gsLst>
              <a:gs pos="0">
                <a:srgbClr val="3333ff"/>
              </a:gs>
              <a:gs pos="100000">
                <a:srgbClr val="434c8d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2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AutoShape 15"/>
          <p:cNvSpPr/>
          <p:nvPr/>
        </p:nvSpPr>
        <p:spPr>
          <a:xfrm>
            <a:off x="3467160" y="4038480"/>
            <a:ext cx="2895480" cy="1828800"/>
          </a:xfrm>
          <a:prstGeom prst="cloudCallout">
            <a:avLst>
              <a:gd name="adj1" fmla="val -60583"/>
              <a:gd name="adj2" fmla="val 65972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28440">
            <a:solidFill>
              <a:srgbClr val="d1e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4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practic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ov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eciation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Jesus’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 priorit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n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4" dur="1" fill="hold"/>
                                  <p:tgtEl>
                                    <p:spTgt spid="1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7222988D-4B89-42E3-8416-A080EF55C88B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Priority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35" name="Freeform 9"/>
          <p:cNvSpPr/>
          <p:nvPr/>
        </p:nvSpPr>
        <p:spPr>
          <a:xfrm rot="388200">
            <a:off x="2359080" y="3936960"/>
            <a:ext cx="4421160" cy="617400"/>
          </a:xfrm>
          <a:custGeom>
            <a:avLst/>
            <a:gdLst>
              <a:gd name="textAreaLeft" fmla="*/ 0 w 4421160"/>
              <a:gd name="textAreaRight" fmla="*/ 4421520 w 4421160"/>
              <a:gd name="textAreaTop" fmla="*/ 0 h 617400"/>
              <a:gd name="textAreaBottom" fmla="*/ 617400 h 617400"/>
            </a:gdLst>
            <a:ahLst/>
            <a:rect l="textAreaLeft" t="textAreaTop" r="textAreaRight" b="textAreaBottom"/>
            <a:pathLst>
              <a:path w="3125" h="389">
                <a:moveTo>
                  <a:pt x="11" y="352"/>
                </a:moveTo>
                <a:cubicBezTo>
                  <a:pt x="240" y="311"/>
                  <a:pt x="470" y="273"/>
                  <a:pt x="699" y="230"/>
                </a:cubicBezTo>
                <a:cubicBezTo>
                  <a:pt x="714" y="227"/>
                  <a:pt x="742" y="214"/>
                  <a:pt x="742" y="214"/>
                </a:cubicBezTo>
                <a:cubicBezTo>
                  <a:pt x="799" y="216"/>
                  <a:pt x="855" y="215"/>
                  <a:pt x="912" y="219"/>
                </a:cubicBezTo>
                <a:cubicBezTo>
                  <a:pt x="976" y="223"/>
                  <a:pt x="1040" y="243"/>
                  <a:pt x="1104" y="251"/>
                </a:cubicBezTo>
                <a:cubicBezTo>
                  <a:pt x="1180" y="229"/>
                  <a:pt x="1260" y="217"/>
                  <a:pt x="1339" y="214"/>
                </a:cubicBezTo>
                <a:cubicBezTo>
                  <a:pt x="1446" y="210"/>
                  <a:pt x="1659" y="203"/>
                  <a:pt x="1659" y="203"/>
                </a:cubicBezTo>
                <a:cubicBezTo>
                  <a:pt x="1703" y="199"/>
                  <a:pt x="1748" y="198"/>
                  <a:pt x="1792" y="192"/>
                </a:cubicBezTo>
                <a:cubicBezTo>
                  <a:pt x="1834" y="186"/>
                  <a:pt x="1889" y="158"/>
                  <a:pt x="1931" y="150"/>
                </a:cubicBezTo>
                <a:cubicBezTo>
                  <a:pt x="2116" y="115"/>
                  <a:pt x="2293" y="88"/>
                  <a:pt x="2480" y="80"/>
                </a:cubicBezTo>
                <a:cubicBezTo>
                  <a:pt x="2514" y="74"/>
                  <a:pt x="2539" y="67"/>
                  <a:pt x="2571" y="59"/>
                </a:cubicBezTo>
                <a:cubicBezTo>
                  <a:pt x="2595" y="42"/>
                  <a:pt x="2627" y="33"/>
                  <a:pt x="2656" y="27"/>
                </a:cubicBezTo>
                <a:cubicBezTo>
                  <a:pt x="2702" y="0"/>
                  <a:pt x="3063" y="28"/>
                  <a:pt x="3115" y="16"/>
                </a:cubicBezTo>
                <a:cubicBezTo>
                  <a:pt x="3125" y="43"/>
                  <a:pt x="2739" y="57"/>
                  <a:pt x="2731" y="85"/>
                </a:cubicBezTo>
                <a:cubicBezTo>
                  <a:pt x="2725" y="104"/>
                  <a:pt x="2610" y="117"/>
                  <a:pt x="2598" y="133"/>
                </a:cubicBezTo>
                <a:cubicBezTo>
                  <a:pt x="2459" y="133"/>
                  <a:pt x="2417" y="147"/>
                  <a:pt x="2326" y="149"/>
                </a:cubicBezTo>
                <a:cubicBezTo>
                  <a:pt x="2181" y="164"/>
                  <a:pt x="2115" y="192"/>
                  <a:pt x="1968" y="197"/>
                </a:cubicBezTo>
                <a:cubicBezTo>
                  <a:pt x="1914" y="202"/>
                  <a:pt x="1878" y="267"/>
                  <a:pt x="1824" y="272"/>
                </a:cubicBezTo>
                <a:cubicBezTo>
                  <a:pt x="1778" y="265"/>
                  <a:pt x="1626" y="256"/>
                  <a:pt x="1579" y="261"/>
                </a:cubicBezTo>
                <a:cubicBezTo>
                  <a:pt x="1474" y="271"/>
                  <a:pt x="1409" y="286"/>
                  <a:pt x="1307" y="288"/>
                </a:cubicBezTo>
                <a:cubicBezTo>
                  <a:pt x="1010" y="285"/>
                  <a:pt x="819" y="307"/>
                  <a:pt x="523" y="320"/>
                </a:cubicBezTo>
                <a:cubicBezTo>
                  <a:pt x="497" y="326"/>
                  <a:pt x="464" y="344"/>
                  <a:pt x="438" y="347"/>
                </a:cubicBezTo>
                <a:cubicBezTo>
                  <a:pt x="396" y="351"/>
                  <a:pt x="353" y="350"/>
                  <a:pt x="310" y="352"/>
                </a:cubicBezTo>
                <a:cubicBezTo>
                  <a:pt x="273" y="362"/>
                  <a:pt x="253" y="389"/>
                  <a:pt x="198" y="379"/>
                </a:cubicBezTo>
                <a:cubicBezTo>
                  <a:pt x="187" y="377"/>
                  <a:pt x="118" y="368"/>
                  <a:pt x="118" y="368"/>
                </a:cubicBezTo>
                <a:cubicBezTo>
                  <a:pt x="80" y="372"/>
                  <a:pt x="31" y="372"/>
                  <a:pt x="0" y="374"/>
                </a:cubicBezTo>
                <a:cubicBezTo>
                  <a:pt x="7" y="356"/>
                  <a:pt x="2" y="362"/>
                  <a:pt x="11" y="352"/>
                </a:cubicBezTo>
                <a:close/>
              </a:path>
            </a:pathLst>
          </a:custGeom>
          <a:solidFill>
            <a:srgbClr val="000066"/>
          </a:solidFill>
          <a:ln w="0">
            <a:noFill/>
          </a:ln>
          <a:effectLst>
            <a:outerShdw dist="153753" dir="2700000" blurRad="0" rotWithShape="0">
              <a:srgbClr val="00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987560" y="2106720"/>
            <a:ext cx="5160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</a:t>
            </a:r>
            <a:endParaRPr b="0" lang="en-US" sz="4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1989000" y="4670280"/>
            <a:ext cx="516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5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760468D2-1272-4BAD-8DF6-6BDFAF48683F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66400" y="75960"/>
            <a:ext cx="62103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Resources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560" y="2152440"/>
            <a:ext cx="845820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53Z</dcterms:modified>
  <cp:revision>63</cp:revision>
  <dc:subject/>
  <dc:title>The Pattern of Teaching Children</dc:title>
</cp:coreProperties>
</file>